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7D31D-CB86-408E-94EA-7D1660277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3826A-0F26-498A-82CC-5AEAA8A26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385B-FA5D-48AA-80F6-799AA6667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FF4B4-C7D3-44E2-A0B7-2611C6A49B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97D9-AC41-43FC-AAAB-D11AA3F0F0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F07B9-D96E-4059-8195-CF201ED6A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BE444-624D-4CEF-AC32-2EA29AD58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483F4-FB8C-4C63-9A9D-77FC4301E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EB6A6-815B-4587-B788-0F6175A86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54992-61DE-421A-9811-FEB33FB8B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54322-8574-4847-857F-FE769F524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D1DAE-39A2-4C3B-BB1F-52C77BA5C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1d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rvation &amp; Stewardship Track - Session: View from the Field - R. Duer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IP Federation Meeting, Santa Barbara, July 200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960" y="6457680"/>
            <a:ext cx="10666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6A2A-B90C-477A-9909-7B2D850C57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10280" y="6324480"/>
            <a:ext cx="20019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66880"/>
            <a:ext cx="9144000" cy="228600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664080" cy="711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320" y="2773440"/>
            <a:ext cx="2835000" cy="210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4080" y="31237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iew from the Field</a:t>
            </a:r>
            <a:endParaRPr b="1" i="1" lang="en-US" sz="3600" spc="-1" strike="noStrike">
              <a:solidFill>
                <a:srgbClr val="b1db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76920" y="609480"/>
            <a:ext cx="31240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Questions to ponder: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other disciplines, agencies, communities doing for preservation and stewardship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they deal with databases, collections of files, physical objects, ad-hoc services such as work flow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they deal with provenanc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lessons to be learned and incorporated into earth science practi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Agenda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ce Wilson -  Ecological Society of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rav Merchant - i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Djorgovski - National Virtual Observatory/Cal 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ve Hughes - Planetary Data Systems/JP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an Moore - N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ve Morris - LO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an Wilson (JPL) - scifl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olo Missier - MyG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5:28:48Z</dcterms:created>
  <dc:creator>Ruth Duerr</dc:creator>
  <dc:description/>
  <dc:language>en-US</dc:language>
  <cp:lastModifiedBy>Ruth Duerr</cp:lastModifiedBy>
  <cp:lastPrinted>2002-10-01T17:30:54Z</cp:lastPrinted>
  <dcterms:modified xsi:type="dcterms:W3CDTF">2009-07-08T04:31:11Z</dcterms:modified>
  <cp:revision>6</cp:revision>
  <dc:subject/>
  <dc:title>Preservation &amp; Stewardship</dc:title>
</cp:coreProperties>
</file>